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2168202"/>
        <c:axId val="53166409"/>
      </c:barChart>
      <c:catAx>
        <c:axId val="2216820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166409"/>
        <c:crosses val="autoZero"/>
        <c:auto val="1"/>
        <c:lblAlgn val="ctr"/>
        <c:lblOffset val="100"/>
        <c:noMultiLvlLbl val="0"/>
      </c:catAx>
      <c:valAx>
        <c:axId val="5316640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16820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B2073-A4C8-4A92-B74A-2985C7F8C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25A98-1A1B-4F44-8E7A-00BA69947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256B3-B0D4-4B02-AECD-F7CBC5543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442F4-018B-41C3-833F-0214D1195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CAC5B-AF21-4A3B-8082-5BC8E36CE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19C70-9556-4C97-9FCD-822B19779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C883D-EAA7-4407-8963-D157C0D3A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410E5-7C19-4A45-85A0-3D3D4B688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8274F-C603-4730-9FF6-04DDA3649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A646E-3DC9-47B0-BC47-07DFB42E4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7EF48-7813-49F1-8125-53BB5D79F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8C51B-A6B1-458A-90DD-5B27C3B26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262899-BFA8-4D31-B577-9CE93E9BBF3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