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6256"/>
        <c:axId val="31235007"/>
      </c:barChart>
      <c:catAx>
        <c:axId val="5346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35007"/>
        <c:crosses val="autoZero"/>
        <c:auto val="1"/>
        <c:lblAlgn val="ctr"/>
        <c:lblOffset val="100"/>
        <c:noMultiLvlLbl val="0"/>
      </c:catAx>
      <c:valAx>
        <c:axId val="31235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EAD-371D-4A91-BDFA-685A78FA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30C-7F08-493F-90E1-431CC45A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458-8E6E-4C22-807A-52821BB9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3FB-25BB-46C3-BAE6-CBA1C661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0BA-E111-42C4-BFE2-89AD4A2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9AA-46BB-4CC2-B66D-C130CF0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3E1-2369-405C-ADCC-6EA6F8E5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69E-0DA8-48B6-9E9E-7F75625D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E20-0311-482C-A6B7-502E70A9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D7C-2CD7-497D-9BA0-65C75F3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357-E65E-4C5F-9E3E-47C524A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EF6-3A7D-4120-A85D-4F20552A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A163E-0364-4B98-84BC-85DBE1D737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