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09480"/>
        <c:axId val="35714698"/>
      </c:barChart>
      <c:catAx>
        <c:axId val="56709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14698"/>
        <c:crosses val="autoZero"/>
        <c:auto val="1"/>
        <c:lblAlgn val="ctr"/>
        <c:lblOffset val="100"/>
        <c:noMultiLvlLbl val="0"/>
      </c:catAx>
      <c:valAx>
        <c:axId val="35714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09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AF9-B197-46CB-98DE-C5FC79E3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CAF-3632-4C73-B217-54BFB334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602-988B-4069-A11F-30A0A33E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51B-1192-439B-97D8-076BF843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141-71FD-4819-A8AC-AF66223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602-F6A5-44DF-8999-8B58D102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2AD-46BD-4211-9EC7-F727557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AAA-6B63-432A-B349-B76DCD1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B53-0163-44C9-8FB4-1408E656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E02-3D02-417C-BE90-1A4F0CBC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EA6-D8D2-4EC1-891E-6F0605C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4D0-EA47-4B2F-950D-CF108D7B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4F368-E83D-4AAD-8C99-8F06256573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