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037956"/>
        <c:axId val="14541059"/>
      </c:barChart>
      <c:catAx>
        <c:axId val="660379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41059"/>
        <c:crosses val="autoZero"/>
        <c:auto val="1"/>
        <c:lblAlgn val="ctr"/>
        <c:lblOffset val="100"/>
        <c:noMultiLvlLbl val="0"/>
      </c:catAx>
      <c:valAx>
        <c:axId val="145410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379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56C3-1D64-465F-ACCB-D75E15FD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02DD-91AF-414A-9BDB-10BBB1DF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65DB-AE38-4BE1-BD32-5E2C15E3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2B46-CB47-4CFF-9B94-A1E1BE3B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96CB-5B4B-4605-9274-EF158551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CCEA-E55B-408D-98B8-2991F176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7D72-D716-4F41-90A6-A3F94093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D64D-490D-4AAB-882B-EF946D57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CA26-B24A-4FF3-8519-54BD623A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8580-A58A-4892-990B-F8DD1BD5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34CF-D2E2-4CA9-87FE-0363ED35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9B9B-049B-43F4-91F7-BAA66C9A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B915D-D0F2-4B3F-B9EC-5B55FCFB66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