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83016"/>
        <c:axId val="56046876"/>
      </c:barChart>
      <c:catAx>
        <c:axId val="25183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46876"/>
        <c:crosses val="autoZero"/>
        <c:auto val="1"/>
        <c:lblAlgn val="ctr"/>
        <c:lblOffset val="100"/>
        <c:noMultiLvlLbl val="0"/>
      </c:catAx>
      <c:valAx>
        <c:axId val="56046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83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19A-734D-42CC-A0E3-42C96AF7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18E-11D9-42EA-8ACE-70727323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CA2-2998-4148-A93F-48F494E2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99D-7748-4108-A241-40C07B5F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BF0-C961-4F89-A204-56198FE0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7A5-82EC-4591-BA05-ED654BB9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A62-E552-4B0E-94A8-547F85AB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F2E-6DEA-40A4-A25B-938BAAF8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B79-1F94-40D9-9447-9F2CE4EA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51F-E70D-4E39-9D6B-80EA5E0E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97F-A34E-413B-A6B7-11689C1F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BED-A835-4F73-9393-7CC8AE85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2B413-C7C4-44FD-8BED-BE3EEB25AC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